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F400-4507-42FB-B087-C413B9EE0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65FB-FF30-4543-98A5-15F92655A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9CEE-6F13-4F5F-A6F0-A57F278CC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0BC0-826C-41FC-B3D5-FECAD3F907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A906-C18A-4D58-BE38-C6D3413F8F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84F4-5FA6-4ADC-BE1F-7928FBFEC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B0A8-F247-46D0-A0C3-C1095DC7F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D1BC-2D17-48C4-B50F-733E887C2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3CF6-BF52-4641-8E64-2FDE9F2AE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AC62-14FF-47BC-BDC8-DC8691664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9084-ADB5-429A-ABFC-FBFB9F340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6E71-B16F-4A36-9423-E8135B60C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29600" y="647712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8-</a:t>
            </a:r>
            <a:fld id="{D6ED86CC-3B3A-43EA-8142-C65DACF7BBF1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1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We will move along the elements of A. For each new element we will compare the element with the current element of B. If they match, we will traverse A and B until we find a new element in A and a new element in B accordingly. If the elements are the same w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the previous step until the end of the lists. Else we report that the lists do not have the same set of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he above algorithm is O(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ABF5-9363-4F53-B48E-BBE6ADF5A14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2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amine linearly all the elements a of A. For each element a, perform a binary search in the elements of B looking for an element b such that b=m-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2(m,A,B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oreach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=binarysearch(m-a, B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if (found(b)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%d + %d = %d”, a,b,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element was not found in b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364A-ED50-4C79-A68B-43F4D113CE2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DZ</cp:lastModifiedBy>
  <dcterms:modified xsi:type="dcterms:W3CDTF">2006-10-29T07:24:04Z</dcterms:modified>
  <cp:revision>347</cp:revision>
  <dc:subject/>
  <dc:title>l</dc:title>
</cp:coreProperties>
</file>