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869D-8E5A-447E-BDFB-FB28290F7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7B0B-F66A-4B21-BF97-4A02D09A8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845B-C3D4-4B25-B7F6-249BA4278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E87F-E310-4FE5-9757-4AF7A7AA24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00FA-F1C2-4094-98A9-17EB0890C0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9F09-C1A2-444B-8FD9-A02C0AD5F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8925-EAF5-47A3-A60F-F982B406D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030E-A4FA-4BC6-96C0-C714C6EE1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C41D-4BB8-4380-8FBB-1E4459751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6D67-8B60-49D3-9C9D-29224A84C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D88B-324C-4769-89B6-7FE250AB3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1BEC-8262-4205-982A-54C57518A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-</a:t>
            </a:r>
            <a:fld id="{30CCD970-2C55-4D1F-9E73-4710EC7BAD2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1680" y="44604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632412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simple/9/9c/Microsoft_Windows_logo.gif&amp;imgrefurl=http://simple.wikipedia.org/wiki/Microsoft_Windows&amp;h=196&amp;w=287&amp;sz=12&amp;tbnid=eynSai-BDnQJ:&amp;tbnh=75&amp;tbnw=110&amp;prev=/images%3Fq%3Dwindows%2Blogo%26hl%3Den%26lr%3D&amp;oi=imagesr&amp;start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kevcom.com/images/linux/linux.logo.2yp.jpg&amp;imgrefurl=http://www.kevcom.com/images/linux/&amp;h=220&amp;w=170&amp;sz=29&amp;tbnid=-dEjG3JAHxi0kM:&amp;tbnh=102&amp;tbnw=78&amp;hl=en&amp;start=5&amp;prev=/images%3Fq%3Dlinux%2Blogo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xisp.hellug.gr/sun-logo.gif&amp;imgrefurl=http://xisp.hellug.gr/&amp;h=80&amp;w=104&amp;sz=3&amp;tbnid=Ht_EpwDpIVz4zM:&amp;tbnh=60&amp;tbnw=79&amp;hl=en&amp;start=2&amp;prev=/images%3Fq%3Dsunos%2Blogo%26svnum%3D10%26hl%3Den%26lr%3D%26rls%3DGGLJ,GGLJ:2006-10,GGLJ: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beta2.savvy.net/uploads/logo_ibm-aix-server.gif&amp;imgrefurl=http://www.savvy.net/detail.asp%3Fcategory_id%3D5%26article_id%3D82&amp;h=67&amp;w=81&amp;sz=2&amp;tbnid=H0BRP9aFH3GEiM:&amp;tbnh=58&amp;tbnw=71&amp;hl=en&amp;start=9&amp;prev=/images%3Fq%3Dibm%2Baix%2Blogo%26svnum%3D10%26hl%3Den%26lr%3D%26rls%3DGGLJ,GGLJ:2006-10,GGLJ:e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resnet.ramapo.edu/images/macos9_logo.gif&amp;imgrefurl=http://resnet.ramapo.edu/config_mac.php&amp;h=181&amp;w=198&amp;sz=4&amp;tbnid=GWkzr4n6KP6IwM:&amp;tbnh=90&amp;tbnw=99&amp;hl=en&amp;start=5&amp;prev=/images%3Fq%3Dmacos%2Blogo%26svnum%3D10%26hl%3Den%26lr%3D%26rls%3DGGLJ,GGLJ:2006-10,GGLJ: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blog.tilos.hu/speedlight/2003/04/pdas.jpg&amp;imgrefurl=http://blog.tilos.hu/speedlight/archives/2003_04.html&amp;h=257&amp;w=400&amp;sz=19&amp;tbnid=5j3ifRdnCa4ZiM:&amp;tbnh=77&amp;tbnw=120&amp;hl=en&amp;start=11&amp;prev=/images%3Fq%3Dwindows%2Bce%2B%26svnum%3D10%26hl%3Den%26lr%3D%26rls%3DGGLJ,GGLJ:2006-10,GGLJ:en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/imgres?imgurl=http://www.windowsfordevices.com/files/microsoft/ms-logo.jpg&amp;imgrefurl=http://www.windowsfordevices.com/sponsors/SP7571057230.html&amp;h=150&amp;w=200&amp;sz=7&amp;tbnid=mUnN4yHKyJO-8M:&amp;tbnh=74&amp;tbnw=99&amp;hl=en&amp;start=1&amp;prev=/images%3Fq%3Dwindows%2Bce%2Blogo%26svnum%3D10%26hl%3Den%26lr%3D%26rls%3DGGLJ,GGLJ:2006-10,GGLJ:e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m/imgres?imgurl=http://www.visualwebsolutions.net/images/server-01.png&amp;imgrefurl=http://www.visualwebsolutions.net/images/&amp;h=279&amp;w=200&amp;sz=74&amp;tbnid=FJGj23ZEMsjwxM:&amp;tbnh=109&amp;tbnw=78&amp;hl=en&amp;start=1&amp;prev=/images%3Fq%3Dserver%26svnum%3D10%26hl%3Den%26lr%3D%26rls%3DGGLJ,GGLJ:2006-10,GGLJ:en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s.google.com/imgres?imgurl=http://www.cs.wisc.edu/~nejedlo/gif/cluster.jpg&amp;imgrefurl=http://www.cs.wisc.edu/condor/cluster/&amp;h=864&amp;w=1152&amp;sz=272&amp;tbnid=D1rf3_6W3drwyM:&amp;tbnh=112&amp;tbnw=150&amp;hl=en&amp;start=3&amp;prev=/images%3Fq%3Dcluster%26svnum%3D10%26hl%3Den%26lr%3D%26rls%3DGGLJ,GGLJ:2006-10,GGLJ:en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s.google.com/imgres?imgurl=http://www.amigobc.com/logo_windows_net_server_2003.jpg&amp;imgrefurl=http://www.amigobc.com/clearance.htm&amp;h=320&amp;w=486&amp;sz=19&amp;tbnid=6G9ZokJ25FAU6M:&amp;tbnh=82&amp;tbnw=126&amp;hl=en&amp;start=3&amp;prev=/images%3Fq%3Dwindows%2Bserver%2Blogo%26svnum%3D10%26hl%3Den%26lr%3D%26sa%3DN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images.google.com/imgres?imgurl=http://www.superwarehouse.com/images/products/apple_ibookg4v2.jpg&amp;imgrefurl=http://www.superwarehouse.com/Apple_iBook_G4_933MHz_Laptop/M9388LL_A/p/341876&amp;h=200&amp;w=220&amp;sz=16&amp;tbnid=c1uqLqvD1zGmhM:&amp;tbnh=92&amp;tbnw=102&amp;hl=en&amp;start=8&amp;prev=/images%3Fq%3Dmac%2Blaptop%26svnum%3D10%26hl%3Den%26lr%3D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images.google.com/imgres?imgurl=http://www.connectedhomemedia.com/Articles/Images/toshiba_tabletpc.jpg&amp;imgrefurl=http://www.connectedhomemedia.com/Articles/Print.cfm%3FArticleID%3D45660%26Path%3DHomeOffice&amp;h=250&amp;w=250&amp;sz=16&amp;tbnid=jtGPo_ugOyvC-M:&amp;tbnh=106&amp;tbnw=106&amp;hl=en&amp;start=4&amp;prev=/images%3Fq%3Dtoshiba%2Bcomputer%26svnum%3D10%26hl%3Den%26lr%3D%26sa%3DG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http://www.wince.com.br/images/treo700w.jpg&amp;imgrefurl=http://www.wince.com.br/cgi-bin/equipamentos/03.idc%3Fregistro%3D694&amp;h=373&amp;w=256&amp;sz=23&amp;tbnid=QCtdRf6HlpV2fM:&amp;tbnh=118&amp;tbnw=80&amp;hl=en&amp;start=14&amp;prev=/images%3Fq%3Dwindows%2Bembedded%2Bphone%26svnum%3D10%26hl%3Den%26lr%3D" TargetMode="External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9280" y="1344240"/>
            <a:ext cx="78912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ρχεία στη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γαστήριο 2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(Επανάληψη στο Σπίτι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δάσκω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μήτρης Ζεϊναλιπού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656D-7C16-4551-AD71-0BCDC64789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*fopen(char *filename, char *mode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όνομα του αρχείου που επιθυμούμε να ανοίξου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είδος της πράξης (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, write, read-writ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in() { FILE *f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38680" y="48769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638680"/>
            <a:ext cx="21333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νο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495680"/>
            <a:ext cx="332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ύπος Ανοίγ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(εδώ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080" y="548604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58640" y="609588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E991-573D-48A1-AE8B-9D23B52A54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73160"/>
          <a:ext cx="8229600" cy="4884840"/>
        </p:xfrm>
        <a:graphic>
          <a:graphicData uri="http://schemas.openxmlformats.org/drawingml/2006/table">
            <a:tbl>
              <a:tblPr/>
              <a:tblGrid>
                <a:gridCol w="1371600"/>
                <a:gridCol w="68580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ημασί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γραφ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 File: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Υποδηλώνουμε ότι πρόκειται να επεξεργαστούμε αρχείο με δυαδικά δεδομέν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80880" y="11430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H παράμετρος mode υποδεικνύει τον τρόπο με τον οποίο θέλουμε να προσπελάσουμ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B204-F81D-420D-8B44-4ADBFBE7F52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Κλείσιμο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67652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lo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fclose(FILE *fp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δεικνύει την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6848-0A7B-40B1-B51B-B24018F25E3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ράψετε ένα απλό πρόγραμμα που προσθέτει την λέξ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Hello”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 ένα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ILE *fp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 = fopen("myfile.txt", "a"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νοιγ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rintf(fp, "Hello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τύπωση σε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κλείσιμο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5627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ς δούμε τώρα τις εντολέ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printf, f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σε περισσότερο βάθ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342864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6C56-F384-454D-AE7B-5D51AABF54E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// Try to ope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Write to the 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Hello 5 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fprintf(fp, "Hell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d %d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5,6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95680" y="2362320"/>
            <a:ext cx="838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523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ίδιο πρόγραμμα με συνθήκη έλεγχου που ελέγχει αν άνοιξ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038480"/>
            <a:ext cx="35812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 Αν γέμισε ο δίσκος τότ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αποτύχει, και ο χρήστης του προγράμματος μπορεί να ειδοποιηθεί με μήνυμα λάθ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2286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5343-9744-48FE-8291-50F6EBF4C90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765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86400" y="1904760"/>
            <a:ext cx="685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4952880"/>
            <a:ext cx="35816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2DFB-6B10-4CF7-B2EB-4658C230F1D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Εκτύπωση 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Εκτύπωσε τον αριθ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952880"/>
            <a:ext cx="327672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 από αρχείο και εκτύπωση του 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2326-A9C2-4B2D-B337-5095E3F5EF9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 Εκτύπ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x 2 /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Κλείσιμ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733920"/>
            <a:ext cx="32763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δυο ακέραιων από αρχείο και εκτύπωση τους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59C8-E714-43CD-8F76-5955F0044EE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47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άποιος σας δίδει ένα μεγάλο αρχείο αριθμών. Σας ζητά να βρείτε τον μέγιστο αριθμό στο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352680"/>
            <a:ext cx="624852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 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fil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6325-793D-4783-9791-596DCF4F7ED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while (fscanf(fp, "%d", &amp;a) != EOF)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%d\n", 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f (a&gt;max) { max = a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f(“max:%d”, max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Print th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7985-C193-49E1-AF19-03DE04D5D30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324840" cy="4206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447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να αποθηκεύσουμε δεδομένα από ένα πρόγραμμα, πρέπει να χρησιμοποιήσουμε την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ευτερεύουσα Μνή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594360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91120" y="56386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8320" y="4038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2209680"/>
            <a:ext cx="1447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698A-EA28-4E9A-8327-E505E3B05E3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σκησ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i;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"w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or (i=0;i&lt;10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rintf(fp, "%d\n", rand() %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5238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Τι ακριβώς κάνει το πιο κάτω πρόγραμμ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770A-AEA6-41B2-96B6-E978412DAD2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40320" y="1523880"/>
            <a:ext cx="355140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295280"/>
            <a:ext cx="5105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ιο συνηθισμένη μορφή δευτερεύουσας μνήμη η οποία αξιοποιείτε από ένα πρόγραμμα είναι ο Μαγνητικός Δίσκ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αγνητικός Δίσκο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τε από ένα ή περισσότερους δίσκους με μαγνητική επικάλυ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δεδομένα αποθηκεύονται σε τομείς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sector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δίσκοι διαθέτουν την δυνατότητ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ιριακ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λλά κα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με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όσβασης στα δεδομέν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42000" y="4068720"/>
            <a:ext cx="2716200" cy="187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1038-2C34-4A44-90F3-01C6CE2F8F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α Λειτουργικά Συστήματα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Operating System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simple.wikipedia.org/wiki/Microsoft_Wind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5410080"/>
            <a:ext cx="1143000" cy="779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733920"/>
            <a:ext cx="87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5334120"/>
            <a:ext cx="1024200" cy="77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447920"/>
            <a:ext cx="8001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ς Διαχειρίζεται τους Πόρους (Μνήμη, Δίσκο, Επεξεργαστή, κτλ) σε ένα Υπολογιστικό Σύστημ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Ο ΛΕΙΤΟΥΡΓΙΚΟ ΣΥΣΤΗ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5257800"/>
            <a:ext cx="105732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52578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3352680"/>
            <a:ext cx="1600200" cy="102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467480" y="5410080"/>
            <a:ext cx="1067040" cy="79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10280" y="3276720"/>
            <a:ext cx="1981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990720" y="3809880"/>
            <a:ext cx="742680" cy="1038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905120" y="3809880"/>
            <a:ext cx="142848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276720"/>
            <a:ext cx="31240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200400" y="5334120"/>
            <a:ext cx="1200240" cy="780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9880" y="3276720"/>
            <a:ext cx="3124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867280" y="3429000"/>
            <a:ext cx="97164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791320" y="434340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620120" y="4419720"/>
            <a:ext cx="56808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>
            <a:off x="4419720" y="3581280"/>
            <a:ext cx="120960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4648320" y="464832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8458-7F7B-4D4C-A44A-7ADA5DA861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Λειτουργικά Συστήματα και Συστήματα Διαχείρισης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θε γλώσσα προγραμματισμού έχει κάποια βιβλιοθήκη η οποία προσφέρει λειτουργίες πρόσβασης σε αρχεία αποθηκευμένα σε μονάδες Δευτερεύουσας Μνήμ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, 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λειτουργίες αυτές προσφέρονται από την βιβλιοθήκ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Βιβλιοθήκη επικοινωνεί με το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υποσύστημα διαχείρισης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ρχείων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e System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ειτουργικού συστήματ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οποίο στην συνέχεια διεκπεραιώνει τις λειτουργίες που ζητά ο προγραμματιστή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yste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32, NT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τι περιέχουν εσωτερικά τα αρχεία (δηλαδή πως αποθηκεύουν τις πληροφορίες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E499-2585-4084-8107-6592E4E8B5E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1905120"/>
            <a:ext cx="60199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Θυμηθείτε ότι το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ρχεί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μία ακολουθί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01100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00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10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:99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cii:97   ascii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χαρακτήρες αυτοί είναι αποθηκευμένοι σειριακά στο αρχείο και διαχωρίζονται με διάφορους ειδικούς χαρακτή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486400"/>
            <a:ext cx="1676520" cy="914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5410080"/>
            <a:ext cx="28195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\nTest\thell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6483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όπως το βλέπει ο χρήσ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648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στην Πραγμα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2200" y="5791320"/>
            <a:ext cx="1295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έλος αρχεί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: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1B5E-88F7-448A-BBB7-87F0E4F138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2371680"/>
            <a:ext cx="6496200" cy="44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Πίνακ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κετοί χαρακτήρες είναι κρυμμένοι – δηλαδή δεν φαίνονται στην οθόνη και στα αρ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3124080" cy="4648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A51E-1D33-4205-9694-8EFA5589B96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Δυαδικά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 Αρχεία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3581280"/>
          <a:ext cx="701028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01028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144792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όλα τα αρχεία περιέχουν Χαρακτήρε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πω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ναι κωδικοποιημένο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αρχείο εικόν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Graphics Interchange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συγκεκριμένα τ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νωστή εικόνα το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στ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96080" y="2819520"/>
            <a:ext cx="1295640" cy="11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2971800"/>
            <a:ext cx="2895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952880"/>
            <a:ext cx="7696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ο σχήμα δείχνει ότι οι εικόνες (όπως και ΌΛΑ τα αρχεία) είναι ουσιαστικά μια σειρά από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ytes</a:t>
            </a: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 (στο σχήμα κωδικοποιημένα στο δεκαεξαδικό σύστημα για να κερδίσουμε χώρ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095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88EE-9F9A-4122-ABC3-00A99B9B572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στα Αρχεί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ώρα θα επικεντρωθούμε στις λειτουργίες εγγραφής και ανάγνωσης σε αρχεία της βιβλιοθήκ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 επεξεργασία  αρχείων γίνεται κατά τον ακόλουθο τρόπο: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σχετίζουμε μία οντότη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η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ο αρχείο 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αρχείο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) Πραγματοποιούμε τις λειτουργί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γνωσης και εγγραφής δεδομέν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Κλείνουμ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αρχεί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A509-D52F-4CD3-B7F3-3EB47C9709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23:11:32Z</dcterms:created>
  <dc:creator>Demetris Zeinalipour</dc:creator>
  <dc:description/>
  <dc:language>en-US</dc:language>
  <cp:lastModifiedBy>DZ</cp:lastModifiedBy>
  <dcterms:modified xsi:type="dcterms:W3CDTF">2006-09-15T11:16:17Z</dcterms:modified>
  <cp:revision>133</cp:revision>
  <dc:subject/>
  <dc:title>EPL032 - File I/O</dc:title>
</cp:coreProperties>
</file>